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057-B45C-4E93-BB70-FD329B72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DBF-23D5-4FBB-A9D0-454B938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33E-9B8A-4601-B564-A5F1D057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452-99F7-4E62-BE81-747727A3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6C2-ADF5-4189-A549-B7C95C71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82E-9DAD-4F56-8A0E-8C312A2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9A8-F434-4699-B5CE-ABBBC21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C24-DB36-4CCC-985F-D277B8B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CE7D-C696-4141-87ED-C1CE7D97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123-A4E0-423F-B09A-E73AB160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389-7611-46C7-B5BD-8C34EEFD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D61-03E1-483A-8B63-95236996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3543-AC45-4F15-861C-EAC6EE6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A2C-6C6B-4DF6-8320-F5782A8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077B-84BC-48F8-B162-E634451B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951C-C111-4E13-874C-5824233F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588-7695-45BA-834F-0242003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2CD-7A48-41CF-9518-00375E05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54F-D2CF-4E72-803E-86F0DCC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AF9-DBD2-48B0-959C-ED004FF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C19-D912-4929-B812-9B6EF9B0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06D-405C-46BF-8F3E-F6514F0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DE6-3919-419B-84F1-89C0A12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B6E-ECDA-41FE-98AF-482FF760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A4C-38C8-4B5D-9D53-928B1823F1C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FBD-BF58-488A-9B0B-03B53A3FE4B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Arial"/>
              </a:rPr>
              <a:t>Properties of Real Numbe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ea typeface="Arial"/>
              </a:rPr>
              <a:t>Goal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: Identify the Properties and give an algebraic exam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flex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Reflexive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 The same expression is written on both sides of the equal sig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+ b = a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ymmetric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ymmetric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Flip sid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, then b =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ransi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Transi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 and b = c, then a = 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absolute value of a number is the distance it is away from zero on the number lin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istance is always positive so absolute values are always positiv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You cannot travel -3 miles, so distance must be positive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1/2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3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.01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|-3.4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+ |-7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roperties of Real Numb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properties of real numbers allow us to manipulate expressions and equations and find the values of a variabl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mut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ommut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Positions of terms chan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Deals with ORDER.  It does not matter   what order you ADD or MULTIPL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 a + b = b +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ab = b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ssoci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Associ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The grouping of terms chang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“regrouping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(a + b) + c = a + (b + 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(ab)c = a(b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dentity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Identity Propertie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Get original term ba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x + 0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x)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rs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Arial"/>
              </a:rPr>
              <a:t>Inverse Properties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add to 0 and multiply to 1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di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+ -a = 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ultiplica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4952880"/>
          <a:ext cx="1595520" cy="11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159552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istribu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(b+c) = ab + a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j + k)4 = 4j + 4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4 = 4+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5(x - 4) = 5x - 2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24(2) = 2(24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(3 + 4) + 7 = 3 + (4 + 7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5638680"/>
          <a:ext cx="236232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638680"/>
                    <a:ext cx="23623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7+3)+2 = 2+(7+3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4)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9 + 0 = -9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6 + 4 = 4 + 6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8:29:45Z</dcterms:created>
  <dc:creator>PA Department of Education</dc:creator>
  <dc:description/>
  <dc:language>en-US</dc:language>
  <cp:lastModifiedBy>Parkland High School</cp:lastModifiedBy>
  <dcterms:modified xsi:type="dcterms:W3CDTF">2010-09-13T12:13:46Z</dcterms:modified>
  <cp:revision>4</cp:revision>
  <dc:subject/>
  <dc:title>Unit 1  1.2  Properties of Real Numbers  </dc:title>
</cp:coreProperties>
</file>